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458-DE1E-4461-83CA-2056D00A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E05-0F85-42F5-91FE-EBF5227C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E9A-FF37-480E-B320-E9B81C10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22E-350F-4A98-80D6-4B6F8D04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F60-D3D1-485D-B764-72F29C5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6F4-9FD4-401D-9B39-F807F55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200-890B-4A23-BFEF-CFAE15F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15A-252B-4D46-A0E1-324D0440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F0F-0D37-4D09-B4B9-1974398B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13A-66FD-48CE-85BC-CD0417A8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C17-5B88-431A-8A96-4B62380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A42-50CF-46EA-BE27-A5D9C62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E134-6BBC-45D8-B7AE-AFE7A75BCB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819000" y="3610080"/>
            <a:ext cx="2409840" cy="2409840"/>
          </a:xfrm>
          <a:prstGeom prst="rect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0"/>
          <p:cNvSpPr/>
          <p:nvPr/>
        </p:nvSpPr>
        <p:spPr>
          <a:xfrm>
            <a:off x="809640" y="952560"/>
            <a:ext cx="2409840" cy="2409840"/>
          </a:xfrm>
          <a:prstGeom prst="rect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6"/>
          <p:cNvSpPr/>
          <p:nvPr/>
        </p:nvSpPr>
        <p:spPr>
          <a:xfrm>
            <a:off x="1146240" y="1222200"/>
            <a:ext cx="1789200" cy="1935360"/>
          </a:xfrm>
          <a:prstGeom prst="pie">
            <a:avLst/>
          </a:prstGeom>
          <a:solidFill>
            <a:srgbClr val="ff7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2"/>
          <p:cNvSpPr/>
          <p:nvPr/>
        </p:nvSpPr>
        <p:spPr>
          <a:xfrm>
            <a:off x="3914640" y="952560"/>
            <a:ext cx="2409840" cy="2409840"/>
          </a:xfrm>
          <a:prstGeom prst="rect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3"/>
          <p:cNvSpPr/>
          <p:nvPr/>
        </p:nvSpPr>
        <p:spPr>
          <a:xfrm>
            <a:off x="3943440" y="3600360"/>
            <a:ext cx="2409840" cy="2409840"/>
          </a:xfrm>
          <a:prstGeom prst="rect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44"/>
          <p:cNvSpPr/>
          <p:nvPr/>
        </p:nvSpPr>
        <p:spPr>
          <a:xfrm rot="5400000">
            <a:off x="4338720" y="1404720"/>
            <a:ext cx="1657080" cy="1533600"/>
          </a:xfrm>
          <a:prstGeom prst="triangle">
            <a:avLst>
              <a:gd name="adj" fmla="val 50000"/>
            </a:avLst>
          </a:prstGeom>
          <a:solidFill>
            <a:srgbClr val="f5801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4448160" y="3876840"/>
            <a:ext cx="409680" cy="1904760"/>
          </a:xfrm>
          <a:prstGeom prst="rect">
            <a:avLst/>
          </a:prstGeom>
          <a:solidFill>
            <a:srgbClr val="f5801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5448240" y="3876840"/>
            <a:ext cx="409680" cy="1904760"/>
          </a:xfrm>
          <a:prstGeom prst="rect">
            <a:avLst/>
          </a:prstGeom>
          <a:solidFill>
            <a:srgbClr val="f5801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 rot="2701200">
            <a:off x="1857600" y="3669840"/>
            <a:ext cx="279360" cy="2354040"/>
          </a:xfrm>
          <a:prstGeom prst="rect">
            <a:avLst/>
          </a:prstGeom>
          <a:solidFill>
            <a:srgbClr val="f5801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m.pierce</dc:creator>
  <dc:description/>
  <dc:language>en-US</dc:language>
  <cp:lastModifiedBy>Saul Greenberg</cp:lastModifiedBy>
  <dcterms:modified xsi:type="dcterms:W3CDTF">2007-10-28T22:27:42Z</dcterms:modified>
  <cp:revision>103</cp:revision>
  <dc:subject/>
  <dc:title>Slide 1</dc:title>
</cp:coreProperties>
</file>