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18300" cy="9856788"/>
  <p:custShowLst>
    <p:custShow name="Présentation standard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18320" cy="98553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5360"/>
              <a:gd name="textAreaBottom" fmla="*/ 9855000 h 9855360"/>
            </a:gdLst>
            <a:ahLst/>
            <a:rect l="textAreaLeft" t="textAreaTop" r="textAreaRight" b="textAreaBottom"/>
            <a:pathLst>
              <a:path w="21600" h="31685">
                <a:moveTo>
                  <a:pt x="5" y="0"/>
                </a:moveTo>
                <a:arcTo wR="5" hR="5" stAng="16200000" swAng="-5400000"/>
                <a:lnTo>
                  <a:pt x="0" y="31680"/>
                </a:lnTo>
                <a:arcTo wR="5" hR="5" stAng="10800000" swAng="-5400000"/>
                <a:lnTo>
                  <a:pt x="21595" y="316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18320" cy="98553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5360"/>
              <a:gd name="textAreaBottom" fmla="*/ 9855000 h 9855360"/>
            </a:gdLst>
            <a:ahLst/>
            <a:rect l="textAreaLeft" t="textAreaTop" r="textAreaRight" b="textAreaBottom"/>
            <a:pathLst>
              <a:path w="21600" h="31685">
                <a:moveTo>
                  <a:pt x="5" y="0"/>
                </a:moveTo>
                <a:arcTo wR="5" hR="5" stAng="16200000" swAng="-5400000"/>
                <a:lnTo>
                  <a:pt x="0" y="31680"/>
                </a:lnTo>
                <a:arcTo wR="5" hR="5" stAng="10800000" swAng="-5400000"/>
                <a:lnTo>
                  <a:pt x="21595" y="316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18320" cy="98553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5360"/>
              <a:gd name="textAreaBottom" fmla="*/ 9855000 h 9855360"/>
            </a:gdLst>
            <a:ahLst/>
            <a:rect l="textAreaLeft" t="textAreaTop" r="textAreaRight" b="textAreaBottom"/>
            <a:pathLst>
              <a:path w="21600" h="31685">
                <a:moveTo>
                  <a:pt x="5" y="0"/>
                </a:moveTo>
                <a:arcTo wR="5" hR="5" stAng="16200000" swAng="-5400000"/>
                <a:lnTo>
                  <a:pt x="0" y="31680"/>
                </a:lnTo>
                <a:arcTo wR="5" hR="5" stAng="10800000" swAng="-5400000"/>
                <a:lnTo>
                  <a:pt x="21595" y="316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06640" cy="4874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07000" y="0"/>
            <a:ext cx="2906640" cy="4874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21560" cy="36925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980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6760" y="4681440"/>
            <a:ext cx="491976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36144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07000" y="936144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2800"/>
                <a:tab algn="l" pos="887400"/>
                <a:tab algn="l" pos="1333440"/>
                <a:tab algn="l" pos="1778040"/>
                <a:tab algn="l" pos="2224080"/>
                <a:tab algn="l" pos="2666880"/>
                <a:tab algn="l" pos="3112920"/>
                <a:tab algn="l" pos="3557520"/>
                <a:tab algn="l" pos="4003560"/>
                <a:tab algn="l" pos="4448160"/>
                <a:tab algn="l" pos="4892760"/>
                <a:tab algn="l" pos="5338800"/>
                <a:tab algn="l" pos="5783400"/>
                <a:tab algn="l" pos="6229440"/>
                <a:tab algn="l" pos="6672240"/>
                <a:tab algn="l" pos="7118280"/>
                <a:tab algn="l" pos="7562880"/>
                <a:tab algn="l" pos="8008920"/>
                <a:tab algn="l" pos="845352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2800"/>
                <a:tab algn="l" pos="887400"/>
                <a:tab algn="l" pos="1333440"/>
                <a:tab algn="l" pos="1778040"/>
                <a:tab algn="l" pos="2224080"/>
                <a:tab algn="l" pos="2666880"/>
                <a:tab algn="l" pos="3112920"/>
                <a:tab algn="l" pos="3557520"/>
                <a:tab algn="l" pos="4003560"/>
                <a:tab algn="l" pos="4448160"/>
                <a:tab algn="l" pos="4892760"/>
                <a:tab algn="l" pos="5338800"/>
                <a:tab algn="l" pos="5783400"/>
                <a:tab algn="l" pos="6229440"/>
                <a:tab algn="l" pos="6672240"/>
                <a:tab algn="l" pos="7118280"/>
                <a:tab algn="l" pos="7562880"/>
                <a:tab algn="l" pos="8008920"/>
                <a:tab algn="l" pos="845352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99AC6-67BB-4993-A6DF-953F9CA0804A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3807000" y="936144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87400"/>
                <a:tab algn="l" pos="1332000"/>
                <a:tab algn="l" pos="1778040"/>
                <a:tab algn="l" pos="2222640"/>
                <a:tab algn="l" pos="2665440"/>
                <a:tab algn="l" pos="3111480"/>
                <a:tab algn="l" pos="3557520"/>
                <a:tab algn="l" pos="4003560"/>
                <a:tab algn="l" pos="4448160"/>
                <a:tab algn="l" pos="4890960"/>
                <a:tab algn="l" pos="5338800"/>
                <a:tab algn="l" pos="5781600"/>
                <a:tab algn="l" pos="6227640"/>
                <a:tab algn="l" pos="6672240"/>
                <a:tab algn="l" pos="7118280"/>
                <a:tab algn="l" pos="7562880"/>
                <a:tab algn="l" pos="8007480"/>
                <a:tab algn="l" pos="845352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23877-5DBE-48F4-A2F9-7E736379E73E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19240" y="738360"/>
            <a:ext cx="4479840" cy="36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12000"/>
              </a:lnSpc>
              <a:spcBef>
                <a:spcPts val="437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215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21560" cy="3692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96760" y="4681440"/>
            <a:ext cx="491976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07000" y="936144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87400"/>
                <a:tab algn="l" pos="1333440"/>
                <a:tab algn="l" pos="1778040"/>
                <a:tab algn="l" pos="2224080"/>
                <a:tab algn="l" pos="2666880"/>
                <a:tab algn="l" pos="3112920"/>
                <a:tab algn="l" pos="3557520"/>
                <a:tab algn="l" pos="4003560"/>
                <a:tab algn="l" pos="4448160"/>
                <a:tab algn="l" pos="4892760"/>
                <a:tab algn="l" pos="5338800"/>
                <a:tab algn="l" pos="5783400"/>
                <a:tab algn="l" pos="6229440"/>
                <a:tab algn="l" pos="6672240"/>
                <a:tab algn="l" pos="7118280"/>
                <a:tab algn="l" pos="7562880"/>
                <a:tab algn="l" pos="8008920"/>
                <a:tab algn="l" pos="845352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231DA-ED29-44E2-84F0-566466044729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8304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859560"/>
            <a:ext cx="8304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5956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0640" y="385956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3080" y="149868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1080" y="149868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85956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3080" y="385956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1080" y="385956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11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243360"/>
            <a:ext cx="82980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85956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0640" y="385956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59560"/>
            <a:ext cx="8304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980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2" marL="1185840" indent="-22860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3" marL="1604880" indent="-22860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6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4" marL="2057400" indent="-228600">
              <a:lnSpc>
                <a:spcPct val="112000"/>
              </a:lnSpc>
              <a:spcBef>
                <a:spcPts val="1176"/>
              </a:spcBef>
              <a:buClr>
                <a:srgbClr val="b2da11"/>
              </a:buClr>
              <a:buFont typeface="Arial Unicode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5" marL="2057400" indent="-228600">
              <a:lnSpc>
                <a:spcPct val="112000"/>
              </a:lnSpc>
              <a:spcBef>
                <a:spcPts val="1176"/>
              </a:spcBef>
              <a:buClr>
                <a:srgbClr val="000000"/>
              </a:buClr>
              <a:buFont typeface="Arial Unicode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6" marL="2057400" indent="-228600">
              <a:lnSpc>
                <a:spcPct val="112000"/>
              </a:lnSpc>
              <a:spcBef>
                <a:spcPts val="1176"/>
              </a:spcBef>
              <a:buClr>
                <a:srgbClr val="000000"/>
              </a:buClr>
              <a:buFont typeface="Arial Unicode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839080" y="152280"/>
            <a:ext cx="1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22402-B3E7-44D7-8F2E-0407899CDDCF}" type="slidenum">
              <a:rPr b="0" lang="en-GB" sz="1100" spc="-1" strike="noStrike">
                <a:solidFill>
                  <a:srgbClr val="003980"/>
                </a:solidFill>
                <a:latin typeface="Arial Unicode MS"/>
              </a:rPr>
              <a:t>&lt;number&gt;</a:t>
            </a:fld>
            <a:endParaRPr b="0" lang="en-US" sz="1100" spc="-1" strike="noStrike">
              <a:solidFill>
                <a:srgbClr val="ff0066"/>
              </a:solidFill>
              <a:latin typeface="Arial Unicode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0" y="615312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3459240" cy="3432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9280" y="549000"/>
            <a:ext cx="5616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JCTVC-D193</a:t>
            </a:r>
            <a:br>
              <a:rPr sz="2400"/>
            </a:b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Intra prediction based on a linear combination of template matching predictors</a:t>
            </a:r>
            <a:br>
              <a:rPr sz="2400"/>
            </a:b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Integration into the TMuC 0.9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492360" y="1773360"/>
            <a:ext cx="514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3419640"/>
            <a:ext cx="9144000" cy="3438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92360" y="2421000"/>
            <a:ext cx="54007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3980"/>
                </a:solidFill>
                <a:latin typeface="Arial Unicode MS"/>
              </a:rPr>
              <a:t>R. Boitard (INRIA)</a:t>
            </a:r>
            <a:endParaRPr b="0" lang="en-US" sz="1600" spc="-1" strike="noStrike">
              <a:solidFill>
                <a:srgbClr val="ff0066"/>
              </a:solidFill>
              <a:latin typeface="Arial Unicode MS"/>
            </a:endParaRPr>
          </a:p>
          <a:p>
            <a:pPr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3980"/>
                </a:solidFill>
                <a:latin typeface="Arial Unicode MS"/>
              </a:rPr>
              <a:t>L. Guillo  (Irisa/CNRS)</a:t>
            </a:r>
            <a:endParaRPr b="0" lang="en-US" sz="1600" spc="-1" strike="noStrike">
              <a:solidFill>
                <a:srgbClr val="ff0066"/>
              </a:solidFill>
              <a:latin typeface="Arial Unicode MS"/>
            </a:endParaRPr>
          </a:p>
          <a:p>
            <a:pPr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3980"/>
                </a:solidFill>
                <a:latin typeface="Arial Unicode MS"/>
              </a:rPr>
              <a:t>T. Poirier (INRIA)</a:t>
            </a:r>
            <a:endParaRPr b="0" lang="en-US" sz="16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Example 2: BQTerrace (top left corner)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611280" y="909720"/>
            <a:ext cx="81946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Outline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Rationale of this prediction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Integration and settings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First Results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Rationale of the prediction </a:t>
            </a: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(cf. B078)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1) Get the 3 most correlated templates T</a:t>
            </a:r>
            <a:r>
              <a:rPr b="0" lang="fr-FR" sz="2300" spc="-1" strike="noStrike" baseline="-25000">
                <a:solidFill>
                  <a:srgbClr val="003980"/>
                </a:solidFill>
                <a:latin typeface="Arial Unicode MS"/>
              </a:rPr>
              <a:t>i</a:t>
            </a: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2) Compute a weighting factor w</a:t>
            </a:r>
            <a:r>
              <a:rPr b="0" lang="fr-FR" sz="2300" spc="-1" strike="noStrike" baseline="-25000">
                <a:solidFill>
                  <a:srgbClr val="003980"/>
                </a:solidFill>
                <a:latin typeface="Arial Unicode MS"/>
              </a:rPr>
              <a:t>i</a:t>
            </a: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 for every T</a:t>
            </a:r>
            <a:r>
              <a:rPr b="0" lang="fr-FR" sz="2300" spc="-1" strike="noStrike" baseline="-25000">
                <a:solidFill>
                  <a:srgbClr val="003980"/>
                </a:solidFill>
                <a:latin typeface="Arial Unicode MS"/>
              </a:rPr>
              <a:t>i</a:t>
            </a: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: </a:t>
            </a: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3) The prediction is the average  of the predictors</a:t>
            </a: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</p:txBody>
      </p:sp>
      <p:grpSp>
        <p:nvGrpSpPr>
          <p:cNvPr id="59" name="Groupe 62"/>
          <p:cNvGrpSpPr/>
          <p:nvPr/>
        </p:nvGrpSpPr>
        <p:grpSpPr>
          <a:xfrm>
            <a:off x="1403280" y="4149720"/>
            <a:ext cx="1584360" cy="485280"/>
            <a:chOff x="1403280" y="4149720"/>
            <a:chExt cx="1584360" cy="485280"/>
          </a:xfrm>
        </p:grpSpPr>
        <p:grpSp>
          <p:nvGrpSpPr>
            <p:cNvPr id="60" name="Groupe 51"/>
            <p:cNvGrpSpPr/>
            <p:nvPr/>
          </p:nvGrpSpPr>
          <p:grpSpPr>
            <a:xfrm>
              <a:off x="1403280" y="4159800"/>
              <a:ext cx="428760" cy="416880"/>
              <a:chOff x="1403280" y="4159800"/>
              <a:chExt cx="428760" cy="416880"/>
            </a:xfrm>
          </p:grpSpPr>
          <p:sp>
            <p:nvSpPr>
              <p:cNvPr id="61" name="Rectangle 48"/>
              <p:cNvSpPr/>
              <p:nvPr/>
            </p:nvSpPr>
            <p:spPr>
              <a:xfrm>
                <a:off x="1403280" y="4159800"/>
                <a:ext cx="214200" cy="2084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62" name="Rectangle 49"/>
              <p:cNvSpPr/>
              <p:nvPr/>
            </p:nvSpPr>
            <p:spPr>
              <a:xfrm>
                <a:off x="1617480" y="4159800"/>
                <a:ext cx="214560" cy="2084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63" name="Rectangle 50"/>
              <p:cNvSpPr/>
              <p:nvPr/>
            </p:nvSpPr>
            <p:spPr>
              <a:xfrm>
                <a:off x="1403280" y="4368240"/>
                <a:ext cx="214200" cy="2084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</p:grpSp>
        <p:pic>
          <p:nvPicPr>
            <p:cNvPr id="64" name="Groupe 56" descr=""/>
            <p:cNvPicPr/>
            <p:nvPr/>
          </p:nvPicPr>
          <p:blipFill>
            <a:blip r:embed="rId1"/>
            <a:stretch/>
          </p:blipFill>
          <p:spPr>
            <a:xfrm>
              <a:off x="2533680" y="4149720"/>
              <a:ext cx="45396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ZoneTexte 39"/>
            <p:cNvSpPr/>
            <p:nvPr/>
          </p:nvSpPr>
          <p:spPr>
            <a:xfrm>
              <a:off x="1832040" y="4229280"/>
              <a:ext cx="85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Arial Unicode MS"/>
                </a:rPr>
                <a:t>= w</a:t>
              </a:r>
              <a:r>
                <a:rPr b="0" lang="fr-FR" sz="1800" spc="-1" strike="noStrike" baseline="-25000">
                  <a:solidFill>
                    <a:srgbClr val="003399"/>
                  </a:solidFill>
                  <a:latin typeface="Arial Unicode MS"/>
                </a:rPr>
                <a:t>1 </a:t>
              </a:r>
              <a:r>
                <a:rPr b="0" lang="fr-FR" sz="1200" spc="-1" strike="noStrike">
                  <a:solidFill>
                    <a:srgbClr val="003399"/>
                  </a:solidFill>
                  <a:latin typeface="Arial Unicode MS"/>
                </a:rPr>
                <a:t>x</a:t>
              </a:r>
              <a:r>
                <a:rPr b="0" lang="fr-FR" sz="1800" spc="-1" strike="noStrike">
                  <a:solidFill>
                    <a:srgbClr val="003399"/>
                  </a:solidFill>
                  <a:latin typeface="Arial Unicode MS"/>
                </a:rPr>
                <a:t> </a:t>
              </a: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grpSp>
        <p:nvGrpSpPr>
          <p:cNvPr id="66" name="Groupe 51"/>
          <p:cNvGrpSpPr/>
          <p:nvPr/>
        </p:nvGrpSpPr>
        <p:grpSpPr>
          <a:xfrm>
            <a:off x="3635280" y="4149720"/>
            <a:ext cx="432000" cy="431280"/>
            <a:chOff x="3635280" y="4149720"/>
            <a:chExt cx="432000" cy="431280"/>
          </a:xfrm>
        </p:grpSpPr>
        <p:sp>
          <p:nvSpPr>
            <p:cNvPr id="67" name="Rectangle 91"/>
            <p:cNvSpPr/>
            <p:nvPr/>
          </p:nvSpPr>
          <p:spPr>
            <a:xfrm>
              <a:off x="3635280" y="414972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68" name="Rectangle 92"/>
            <p:cNvSpPr/>
            <p:nvPr/>
          </p:nvSpPr>
          <p:spPr>
            <a:xfrm>
              <a:off x="3851280" y="414972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69" name="Rectangle 93"/>
            <p:cNvSpPr/>
            <p:nvPr/>
          </p:nvSpPr>
          <p:spPr>
            <a:xfrm>
              <a:off x="3635280" y="436536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pic>
        <p:nvPicPr>
          <p:cNvPr id="70" name="Groupe 56" descr=""/>
          <p:cNvPicPr/>
          <p:nvPr/>
        </p:nvPicPr>
        <p:blipFill>
          <a:blip r:embed="rId2"/>
          <a:stretch/>
        </p:blipFill>
        <p:spPr>
          <a:xfrm>
            <a:off x="4773600" y="4138560"/>
            <a:ext cx="457200" cy="45252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87"/>
          <p:cNvSpPr/>
          <p:nvPr/>
        </p:nvSpPr>
        <p:spPr>
          <a:xfrm>
            <a:off x="4067280" y="422100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= 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2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grpSp>
        <p:nvGrpSpPr>
          <p:cNvPr id="72" name="Groupe 51"/>
          <p:cNvGrpSpPr/>
          <p:nvPr/>
        </p:nvGrpSpPr>
        <p:grpSpPr>
          <a:xfrm>
            <a:off x="5796000" y="4149720"/>
            <a:ext cx="431640" cy="431280"/>
            <a:chOff x="5796000" y="4149720"/>
            <a:chExt cx="431640" cy="431280"/>
          </a:xfrm>
        </p:grpSpPr>
        <p:sp>
          <p:nvSpPr>
            <p:cNvPr id="73" name="Rectangle 101"/>
            <p:cNvSpPr/>
            <p:nvPr/>
          </p:nvSpPr>
          <p:spPr>
            <a:xfrm>
              <a:off x="5796000" y="414972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74" name="Rectangle 102"/>
            <p:cNvSpPr/>
            <p:nvPr/>
          </p:nvSpPr>
          <p:spPr>
            <a:xfrm>
              <a:off x="6011640" y="414972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75" name="Rectangle 103"/>
            <p:cNvSpPr/>
            <p:nvPr/>
          </p:nvSpPr>
          <p:spPr>
            <a:xfrm>
              <a:off x="5796000" y="436536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pic>
        <p:nvPicPr>
          <p:cNvPr id="76" name="Groupe 56" descr=""/>
          <p:cNvPicPr/>
          <p:nvPr/>
        </p:nvPicPr>
        <p:blipFill>
          <a:blip r:embed="rId3"/>
          <a:stretch/>
        </p:blipFill>
        <p:spPr>
          <a:xfrm>
            <a:off x="6937200" y="4138560"/>
            <a:ext cx="457200" cy="45252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97"/>
          <p:cNvSpPr/>
          <p:nvPr/>
        </p:nvSpPr>
        <p:spPr>
          <a:xfrm>
            <a:off x="6227640" y="4221000"/>
            <a:ext cx="8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= 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3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78" name="ZoneTexte 107"/>
          <p:cNvSpPr/>
          <p:nvPr/>
        </p:nvSpPr>
        <p:spPr>
          <a:xfrm>
            <a:off x="2700360" y="5435640"/>
            <a:ext cx="1150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= 1/3[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1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79" name="ZoneTexte 114"/>
          <p:cNvSpPr/>
          <p:nvPr/>
        </p:nvSpPr>
        <p:spPr>
          <a:xfrm>
            <a:off x="3995640" y="54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+ 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2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0" name="Rectangle 115"/>
          <p:cNvSpPr/>
          <p:nvPr/>
        </p:nvSpPr>
        <p:spPr>
          <a:xfrm>
            <a:off x="2556000" y="5516640"/>
            <a:ext cx="215640" cy="216000"/>
          </a:xfrm>
          <a:prstGeom prst="rect">
            <a:avLst/>
          </a:prstGeom>
          <a:solidFill>
            <a:srgbClr val="8585e0"/>
          </a:solidFill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1" name="Rectangle 116"/>
          <p:cNvSpPr/>
          <p:nvPr/>
        </p:nvSpPr>
        <p:spPr>
          <a:xfrm>
            <a:off x="3780000" y="5516640"/>
            <a:ext cx="21564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2" name="Rectangle 117"/>
          <p:cNvSpPr/>
          <p:nvPr/>
        </p:nvSpPr>
        <p:spPr>
          <a:xfrm>
            <a:off x="4716360" y="5516640"/>
            <a:ext cx="216000" cy="216000"/>
          </a:xfrm>
          <a:prstGeom prst="rect">
            <a:avLst/>
          </a:prstGeom>
          <a:solidFill>
            <a:srgbClr val="ff8f8f"/>
          </a:solidFill>
          <a:ln w="9360">
            <a:solidFill>
              <a:srgbClr val="f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3" name="ZoneTexte 118"/>
          <p:cNvSpPr/>
          <p:nvPr/>
        </p:nvSpPr>
        <p:spPr>
          <a:xfrm>
            <a:off x="4932360" y="5445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+ 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3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4" name="Rectangle 119"/>
          <p:cNvSpPr/>
          <p:nvPr/>
        </p:nvSpPr>
        <p:spPr>
          <a:xfrm>
            <a:off x="5651640" y="5516640"/>
            <a:ext cx="215640" cy="216000"/>
          </a:xfrm>
          <a:prstGeom prst="rect">
            <a:avLst/>
          </a:prstGeom>
          <a:solidFill>
            <a:srgbClr val="009973"/>
          </a:solidFill>
          <a:ln w="9360">
            <a:solidFill>
              <a:srgbClr val="0066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5" name="ZoneTexte 121"/>
          <p:cNvSpPr/>
          <p:nvPr/>
        </p:nvSpPr>
        <p:spPr>
          <a:xfrm>
            <a:off x="5867280" y="5445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]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6" name="ZoneTexte 125"/>
          <p:cNvSpPr/>
          <p:nvPr/>
        </p:nvSpPr>
        <p:spPr>
          <a:xfrm>
            <a:off x="6732720" y="234936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3399"/>
                </a:solidFill>
                <a:latin typeface="Arial Unicode MS"/>
              </a:rPr>
              <a:t>Block to be predicted</a:t>
            </a:r>
            <a:endParaRPr b="0" lang="en-US" sz="1000" spc="-1" strike="noStrike">
              <a:solidFill>
                <a:srgbClr val="ff0066"/>
              </a:solidFill>
              <a:latin typeface="Arial Unicode MS"/>
            </a:endParaRPr>
          </a:p>
        </p:txBody>
      </p:sp>
      <p:grpSp>
        <p:nvGrpSpPr>
          <p:cNvPr id="87" name="Groupe 67"/>
          <p:cNvGrpSpPr/>
          <p:nvPr/>
        </p:nvGrpSpPr>
        <p:grpSpPr>
          <a:xfrm>
            <a:off x="684360" y="1268280"/>
            <a:ext cx="7704000" cy="1440000"/>
            <a:chOff x="684360" y="1268280"/>
            <a:chExt cx="7704000" cy="1440000"/>
          </a:xfrm>
        </p:grpSpPr>
        <p:grpSp>
          <p:nvGrpSpPr>
            <p:cNvPr id="88" name="Groupe 120"/>
            <p:cNvGrpSpPr/>
            <p:nvPr/>
          </p:nvGrpSpPr>
          <p:grpSpPr>
            <a:xfrm>
              <a:off x="2696760" y="1339560"/>
              <a:ext cx="2955960" cy="1368720"/>
              <a:chOff x="2696760" y="1339560"/>
              <a:chExt cx="2955960" cy="1368720"/>
            </a:xfrm>
          </p:grpSpPr>
          <p:sp>
            <p:nvSpPr>
              <p:cNvPr id="89" name="Rectangle 7"/>
              <p:cNvSpPr/>
              <p:nvPr/>
            </p:nvSpPr>
            <p:spPr>
              <a:xfrm>
                <a:off x="4641480" y="2276280"/>
                <a:ext cx="216000" cy="2160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0" name="Rectangle 8"/>
              <p:cNvSpPr/>
              <p:nvPr/>
            </p:nvSpPr>
            <p:spPr>
              <a:xfrm>
                <a:off x="4857480" y="2276280"/>
                <a:ext cx="216000" cy="2160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1" name="Rectangle 9"/>
              <p:cNvSpPr/>
              <p:nvPr/>
            </p:nvSpPr>
            <p:spPr>
              <a:xfrm>
                <a:off x="4641480" y="2492280"/>
                <a:ext cx="216000" cy="2160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2" name="Rectangle 10"/>
              <p:cNvSpPr/>
              <p:nvPr/>
            </p:nvSpPr>
            <p:spPr>
              <a:xfrm>
                <a:off x="4857840" y="2492280"/>
                <a:ext cx="215640" cy="216000"/>
              </a:xfrm>
              <a:prstGeom prst="rect">
                <a:avLst/>
              </a:prstGeom>
              <a:solidFill>
                <a:srgbClr val="8585e0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3" name="Connecteur droit 13"/>
              <p:cNvSpPr/>
              <p:nvPr/>
            </p:nvSpPr>
            <p:spPr>
              <a:xfrm flipH="1">
                <a:off x="2696760" y="2707200"/>
                <a:ext cx="1965240" cy="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4" name="Connecteur droit 15"/>
              <p:cNvSpPr/>
              <p:nvPr/>
            </p:nvSpPr>
            <p:spPr>
              <a:xfrm flipH="1">
                <a:off x="5073480" y="2275560"/>
                <a:ext cx="576000" cy="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5" name="Connecteur droit 17"/>
              <p:cNvSpPr/>
              <p:nvPr/>
            </p:nvSpPr>
            <p:spPr>
              <a:xfrm flipV="1">
                <a:off x="5649840" y="1339560"/>
                <a:ext cx="0" cy="936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6" name="Connecteur droit 20"/>
              <p:cNvSpPr/>
              <p:nvPr/>
            </p:nvSpPr>
            <p:spPr>
              <a:xfrm flipH="1">
                <a:off x="2696760" y="1339560"/>
                <a:ext cx="295596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7" name="Connecteur droit 24"/>
              <p:cNvSpPr/>
              <p:nvPr/>
            </p:nvSpPr>
            <p:spPr>
              <a:xfrm flipV="1">
                <a:off x="2697120" y="1339560"/>
                <a:ext cx="0" cy="1368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8" name="Rectangle 30"/>
              <p:cNvSpPr/>
              <p:nvPr/>
            </p:nvSpPr>
            <p:spPr>
              <a:xfrm>
                <a:off x="3129120" y="2131920"/>
                <a:ext cx="216000" cy="2160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9" name="Rectangle 31"/>
              <p:cNvSpPr/>
              <p:nvPr/>
            </p:nvSpPr>
            <p:spPr>
              <a:xfrm>
                <a:off x="3345120" y="2131920"/>
                <a:ext cx="216000" cy="2160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0" name="Rectangle 32"/>
              <p:cNvSpPr/>
              <p:nvPr/>
            </p:nvSpPr>
            <p:spPr>
              <a:xfrm>
                <a:off x="3129120" y="2348280"/>
                <a:ext cx="216000" cy="2160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1" name="Rectangle 33"/>
              <p:cNvSpPr/>
              <p:nvPr/>
            </p:nvSpPr>
            <p:spPr>
              <a:xfrm>
                <a:off x="3345120" y="2348280"/>
                <a:ext cx="216000" cy="2160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2" name="Rectangle 35"/>
              <p:cNvSpPr/>
              <p:nvPr/>
            </p:nvSpPr>
            <p:spPr>
              <a:xfrm>
                <a:off x="4857840" y="1699920"/>
                <a:ext cx="215640" cy="216000"/>
              </a:xfrm>
              <a:prstGeom prst="rect">
                <a:avLst/>
              </a:prstGeom>
              <a:solidFill>
                <a:srgbClr val="00664d"/>
              </a:solidFill>
              <a:ln w="9360">
                <a:solidFill>
                  <a:srgbClr val="0066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3" name="Rectangle 36"/>
              <p:cNvSpPr/>
              <p:nvPr/>
            </p:nvSpPr>
            <p:spPr>
              <a:xfrm>
                <a:off x="5073840" y="1699920"/>
                <a:ext cx="215640" cy="216000"/>
              </a:xfrm>
              <a:prstGeom prst="rect">
                <a:avLst/>
              </a:prstGeom>
              <a:solidFill>
                <a:srgbClr val="00664d"/>
              </a:solidFill>
              <a:ln w="9360">
                <a:solidFill>
                  <a:srgbClr val="0066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4" name="Rectangle 37"/>
              <p:cNvSpPr/>
              <p:nvPr/>
            </p:nvSpPr>
            <p:spPr>
              <a:xfrm>
                <a:off x="4857840" y="1915920"/>
                <a:ext cx="215640" cy="216000"/>
              </a:xfrm>
              <a:prstGeom prst="rect">
                <a:avLst/>
              </a:prstGeom>
              <a:solidFill>
                <a:srgbClr val="00664d"/>
              </a:solidFill>
              <a:ln w="9360">
                <a:solidFill>
                  <a:srgbClr val="0066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5" name="Rectangle 38"/>
              <p:cNvSpPr/>
              <p:nvPr/>
            </p:nvSpPr>
            <p:spPr>
              <a:xfrm>
                <a:off x="5073840" y="1915920"/>
                <a:ext cx="215640" cy="216000"/>
              </a:xfrm>
              <a:prstGeom prst="rect">
                <a:avLst/>
              </a:prstGeom>
              <a:solidFill>
                <a:srgbClr val="009973"/>
              </a:solidFill>
              <a:ln w="9360">
                <a:solidFill>
                  <a:srgbClr val="0066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6" name="Rectangle 40"/>
              <p:cNvSpPr/>
              <p:nvPr/>
            </p:nvSpPr>
            <p:spPr>
              <a:xfrm>
                <a:off x="3849120" y="1915920"/>
                <a:ext cx="216000" cy="2160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7" name="Rectangle 41"/>
              <p:cNvSpPr/>
              <p:nvPr/>
            </p:nvSpPr>
            <p:spPr>
              <a:xfrm>
                <a:off x="4065120" y="1915920"/>
                <a:ext cx="216000" cy="2160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8" name="Rectangle 42"/>
              <p:cNvSpPr/>
              <p:nvPr/>
            </p:nvSpPr>
            <p:spPr>
              <a:xfrm>
                <a:off x="3849120" y="2131920"/>
                <a:ext cx="216000" cy="2160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9" name="Rectangle 43"/>
              <p:cNvSpPr/>
              <p:nvPr/>
            </p:nvSpPr>
            <p:spPr>
              <a:xfrm>
                <a:off x="4065120" y="2131920"/>
                <a:ext cx="216000" cy="216000"/>
              </a:xfrm>
              <a:prstGeom prst="rect">
                <a:avLst/>
              </a:prstGeom>
              <a:solidFill>
                <a:srgbClr val="ff8f8f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</p:grpSp>
        <p:cxnSp>
          <p:nvCxnSpPr>
            <p:cNvPr id="110" name="Connecteur droit avec flèche 123"/>
            <p:cNvCxnSpPr>
              <a:stCxn id="92" idx="3"/>
              <a:endCxn id="86" idx="1"/>
            </p:cNvCxnSpPr>
            <p:nvPr/>
          </p:nvCxnSpPr>
          <p:spPr>
            <a:xfrm flipV="1">
              <a:off x="5073480" y="2471040"/>
              <a:ext cx="1659960" cy="129240"/>
            </a:xfrm>
            <a:prstGeom prst="straightConnector1">
              <a:avLst/>
            </a:prstGeom>
            <a:ln w="9360">
              <a:solidFill>
                <a:srgbClr val="003399"/>
              </a:solidFill>
              <a:miter/>
              <a:headEnd len="med" type="arrow" w="med"/>
            </a:ln>
          </p:spPr>
        </p:cxnSp>
        <p:cxnSp>
          <p:nvCxnSpPr>
            <p:cNvPr id="111" name="Connecteur droit avec flèche 127"/>
            <p:cNvCxnSpPr>
              <a:stCxn id="98" idx="1"/>
              <a:endCxn id="112" idx="3"/>
            </p:cNvCxnSpPr>
            <p:nvPr/>
          </p:nvCxnSpPr>
          <p:spPr>
            <a:xfrm flipH="1" flipV="1">
              <a:off x="1907280" y="1605960"/>
              <a:ext cx="1221480" cy="634320"/>
            </a:xfrm>
            <a:prstGeom prst="straightConnector1">
              <a:avLst/>
            </a:prstGeom>
            <a:ln w="9360">
              <a:solidFill>
                <a:srgbClr val="003399"/>
              </a:solidFill>
              <a:miter/>
              <a:headEnd len="med" type="arrow" w="med"/>
            </a:ln>
          </p:spPr>
        </p:cxnSp>
        <p:sp>
          <p:nvSpPr>
            <p:cNvPr id="112" name="ZoneTexte 128"/>
            <p:cNvSpPr/>
            <p:nvPr/>
          </p:nvSpPr>
          <p:spPr>
            <a:xfrm>
              <a:off x="684360" y="1483920"/>
              <a:ext cx="12236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3399"/>
                  </a:solidFill>
                  <a:latin typeface="Arial Unicode MS"/>
                </a:rPr>
                <a:t>Template  T</a:t>
              </a:r>
              <a:r>
                <a:rPr b="0" lang="fr-FR" sz="1000" spc="-1" strike="noStrike" baseline="-25000">
                  <a:solidFill>
                    <a:srgbClr val="003399"/>
                  </a:solidFill>
                  <a:latin typeface="Arial Unicode MS"/>
                </a:rPr>
                <a:t>i</a:t>
              </a:r>
              <a:r>
                <a:rPr b="0" lang="fr-FR" sz="1000" spc="-1" strike="noStrike">
                  <a:solidFill>
                    <a:srgbClr val="003399"/>
                  </a:solidFill>
                  <a:latin typeface="Arial Unicode MS"/>
                </a:rPr>
                <a:t>(dark)</a:t>
              </a:r>
              <a:endParaRPr b="0" lang="en-US" sz="10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cxnSp>
          <p:nvCxnSpPr>
            <p:cNvPr id="113" name="Connecteur droit avec flèche 133"/>
            <p:cNvCxnSpPr>
              <a:endCxn id="114" idx="1"/>
            </p:cNvCxnSpPr>
            <p:nvPr/>
          </p:nvCxnSpPr>
          <p:spPr>
            <a:xfrm flipV="1">
              <a:off x="5652720" y="1389960"/>
              <a:ext cx="1224360" cy="310320"/>
            </a:xfrm>
            <a:prstGeom prst="straightConnector1">
              <a:avLst/>
            </a:prstGeom>
            <a:ln w="9360">
              <a:solidFill>
                <a:srgbClr val="003399"/>
              </a:solidFill>
              <a:miter/>
              <a:headEnd len="med" type="arrow" w="med"/>
            </a:ln>
          </p:spPr>
        </p:cxnSp>
        <p:sp>
          <p:nvSpPr>
            <p:cNvPr id="114" name="ZoneTexte 134"/>
            <p:cNvSpPr/>
            <p:nvPr/>
          </p:nvSpPr>
          <p:spPr>
            <a:xfrm>
              <a:off x="6877080" y="1268280"/>
              <a:ext cx="1511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3399"/>
                  </a:solidFill>
                  <a:latin typeface="Arial Unicode MS"/>
                </a:rPr>
                <a:t>Causal neighbourhood</a:t>
              </a:r>
              <a:endParaRPr b="0" lang="en-US" sz="10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Integration and settings (1/2)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1498680"/>
            <a:ext cx="83041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2 or 3 search windows extracted from the causal neighbourhood depending on the size of the PU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3640" y="3716280"/>
            <a:ext cx="1152720" cy="1008000"/>
          </a:xfrm>
          <a:prstGeom prst="rect">
            <a:avLst/>
          </a:prstGeom>
          <a:noFill/>
          <a:ln w="19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556000" y="2924280"/>
            <a:ext cx="1152360" cy="10094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916360" y="3933720"/>
            <a:ext cx="647640" cy="790560"/>
          </a:xfrm>
          <a:prstGeom prst="rect">
            <a:avLst/>
          </a:prstGeom>
          <a:noFill/>
          <a:ln w="190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6300720" y="2924280"/>
            <a:ext cx="1150920" cy="10094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796000" y="3284640"/>
            <a:ext cx="1152360" cy="1008000"/>
          </a:xfrm>
          <a:prstGeom prst="rect">
            <a:avLst/>
          </a:prstGeom>
          <a:noFill/>
          <a:ln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2" name="Connecteur droit 9"/>
          <p:cNvSpPr/>
          <p:nvPr/>
        </p:nvSpPr>
        <p:spPr>
          <a:xfrm>
            <a:off x="6948360" y="3933720"/>
            <a:ext cx="0" cy="7192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3" name="Connecteur droit 11"/>
          <p:cNvSpPr/>
          <p:nvPr/>
        </p:nvSpPr>
        <p:spPr>
          <a:xfrm>
            <a:off x="6658920" y="4292640"/>
            <a:ext cx="57636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5508720" y="3645000"/>
            <a:ext cx="1150920" cy="1008000"/>
          </a:xfrm>
          <a:prstGeom prst="rect">
            <a:avLst/>
          </a:prstGeom>
          <a:noFill/>
          <a:ln w="19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659640" y="3933720"/>
            <a:ext cx="576360" cy="719280"/>
          </a:xfrm>
          <a:prstGeom prst="rect">
            <a:avLst/>
          </a:prstGeom>
          <a:noFill/>
          <a:ln w="190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6" name="ZoneTexte 19"/>
          <p:cNvSpPr/>
          <p:nvPr/>
        </p:nvSpPr>
        <p:spPr>
          <a:xfrm>
            <a:off x="1763640" y="486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 Unicode MS"/>
              </a:rPr>
              <a:t>PU Size : 2Nx2N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7" name="ZoneTexte 20"/>
          <p:cNvSpPr/>
          <p:nvPr/>
        </p:nvSpPr>
        <p:spPr>
          <a:xfrm>
            <a:off x="543564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 Unicode MS"/>
              </a:rPr>
              <a:t>PU Size : NxN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Integration and settings (2/2)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0920" y="141300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Number of templates according to the PU size and block size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19280" y="2492280"/>
          <a:ext cx="5977080" cy="2448000"/>
        </p:xfrm>
        <a:graphic>
          <a:graphicData uri="http://schemas.openxmlformats.org/drawingml/2006/table">
            <a:tbl>
              <a:tblPr/>
              <a:tblGrid>
                <a:gridCol w="1108080"/>
                <a:gridCol w="1522440"/>
                <a:gridCol w="1130400"/>
                <a:gridCol w="1108080"/>
                <a:gridCol w="1108080"/>
              </a:tblGrid>
              <a:tr h="3621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Block Siz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Window siz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Width x Height)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# of template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per window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# total of templates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NxN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Nx2N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x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5x11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x8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7x19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1x31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2x32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3x51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First results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498320"/>
            <a:ext cx="8304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Compared with TMuC 0.9 (and HM 1.0),  All intra: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First comments: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lvl="1" marL="130320" indent="-482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There is always a BD-Rate gain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130320" indent="-482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Complexity/performance ratio is higher in LC than in HE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1640" y="2060640"/>
          <a:ext cx="7081920" cy="2133360"/>
        </p:xfrm>
        <a:graphic>
          <a:graphicData uri="http://schemas.openxmlformats.org/drawingml/2006/table">
            <a:tbl>
              <a:tblPr/>
              <a:tblGrid>
                <a:gridCol w="1127160"/>
                <a:gridCol w="1003320"/>
                <a:gridCol w="944280"/>
                <a:gridCol w="946440"/>
                <a:gridCol w="944280"/>
                <a:gridCol w="1059120"/>
                <a:gridCol w="1057320"/>
              </a:tblGrid>
              <a:tr h="213480">
                <a:tc rowSpan="2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Intra H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Intra LC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30%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1%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3%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4%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ZoneTexte 8"/>
          <p:cNvSpPr/>
          <p:nvPr/>
        </p:nvSpPr>
        <p:spPr>
          <a:xfrm>
            <a:off x="4761000" y="4292640"/>
            <a:ext cx="440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 Unicode MS"/>
              </a:rPr>
              <a:t>(best HE prediction : BasketballDrill -2.2%Y. -1.2%U. -1.6%V)</a:t>
            </a:r>
            <a:endParaRPr b="0" lang="en-US" sz="12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Conclusion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Ongoing studies show that 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Performances are deeply related  to the shape of templates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2" marL="1185840" indent="-22860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SzPct val="80000"/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         </a:t>
            </a: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but also       ,        ,        , … 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Derivated templates are often relevant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Complexity can be reduced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Once these works will be integrated, template matching based approaches should be interesting for the HE profile.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grpSp>
        <p:nvGrpSpPr>
          <p:cNvPr id="137" name="Groupe 7"/>
          <p:cNvGrpSpPr/>
          <p:nvPr/>
        </p:nvGrpSpPr>
        <p:grpSpPr>
          <a:xfrm>
            <a:off x="1979640" y="2421000"/>
            <a:ext cx="431280" cy="431280"/>
            <a:chOff x="1979640" y="2421000"/>
            <a:chExt cx="431280" cy="431280"/>
          </a:xfrm>
        </p:grpSpPr>
        <p:sp>
          <p:nvSpPr>
            <p:cNvPr id="138" name="Rectangle 3"/>
            <p:cNvSpPr/>
            <p:nvPr/>
          </p:nvSpPr>
          <p:spPr>
            <a:xfrm>
              <a:off x="1979640" y="242100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2195280" y="242100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1979640" y="263664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2195280" y="2636640"/>
              <a:ext cx="215640" cy="215640"/>
            </a:xfrm>
            <a:prstGeom prst="rect">
              <a:avLst/>
            </a:prstGeom>
            <a:solidFill>
              <a:srgbClr val="8585e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grpSp>
        <p:nvGrpSpPr>
          <p:cNvPr id="142" name="Groupe 12"/>
          <p:cNvGrpSpPr/>
          <p:nvPr/>
        </p:nvGrpSpPr>
        <p:grpSpPr>
          <a:xfrm>
            <a:off x="3635280" y="2421000"/>
            <a:ext cx="216000" cy="431640"/>
            <a:chOff x="3635280" y="2421000"/>
            <a:chExt cx="216000" cy="431640"/>
          </a:xfrm>
        </p:grpSpPr>
        <p:sp>
          <p:nvSpPr>
            <p:cNvPr id="143" name="Rectangle 9"/>
            <p:cNvSpPr/>
            <p:nvPr/>
          </p:nvSpPr>
          <p:spPr>
            <a:xfrm>
              <a:off x="3635280" y="242100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3635280" y="2636640"/>
              <a:ext cx="216000" cy="216000"/>
            </a:xfrm>
            <a:prstGeom prst="rect">
              <a:avLst/>
            </a:prstGeom>
            <a:solidFill>
              <a:srgbClr val="8585e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grpSp>
        <p:nvGrpSpPr>
          <p:cNvPr id="145" name="Groupe 17"/>
          <p:cNvGrpSpPr/>
          <p:nvPr/>
        </p:nvGrpSpPr>
        <p:grpSpPr>
          <a:xfrm>
            <a:off x="4067280" y="2492280"/>
            <a:ext cx="433440" cy="216000"/>
            <a:chOff x="4067280" y="2492280"/>
            <a:chExt cx="433440" cy="216000"/>
          </a:xfrm>
        </p:grpSpPr>
        <p:sp>
          <p:nvSpPr>
            <p:cNvPr id="146" name="Rectangle 15"/>
            <p:cNvSpPr/>
            <p:nvPr/>
          </p:nvSpPr>
          <p:spPr>
            <a:xfrm>
              <a:off x="4067280" y="2492280"/>
              <a:ext cx="216720" cy="216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47" name="Rectangle 16"/>
            <p:cNvSpPr/>
            <p:nvPr/>
          </p:nvSpPr>
          <p:spPr>
            <a:xfrm>
              <a:off x="4284720" y="2492280"/>
              <a:ext cx="216000" cy="216000"/>
            </a:xfrm>
            <a:prstGeom prst="rect">
              <a:avLst/>
            </a:prstGeom>
            <a:solidFill>
              <a:srgbClr val="8585e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sp>
        <p:nvSpPr>
          <p:cNvPr id="148" name="Rectangle 18"/>
          <p:cNvSpPr/>
          <p:nvPr/>
        </p:nvSpPr>
        <p:spPr>
          <a:xfrm>
            <a:off x="4716360" y="2421000"/>
            <a:ext cx="216000" cy="2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4932360" y="2637000"/>
            <a:ext cx="216000" cy="215640"/>
          </a:xfrm>
          <a:prstGeom prst="rect">
            <a:avLst/>
          </a:prstGeom>
          <a:solidFill>
            <a:srgbClr val="8585e0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66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Thank you.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Example 1: BasketballDrill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133640"/>
            <a:ext cx="7925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jet Identité INRIA</dc:creator>
  <dc:description/>
  <dc:language>en-US</dc:language>
  <cp:lastModifiedBy>INRIA</cp:lastModifiedBy>
  <dcterms:modified xsi:type="dcterms:W3CDTF">2011-01-22T11:20:04Z</dcterms:modified>
  <cp:revision>598</cp:revision>
  <dc:subject/>
  <dc:title>Présentation de l'INRIA</dc:title>
</cp:coreProperties>
</file>